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63C-06CB-4A33-938E-F81A6C96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91F-4C9C-4318-B7EB-1895CE66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624-757A-409D-A54A-4B578049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E23-04B1-4670-98D4-62738A24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E8EC-0FFB-4E65-8686-04A1064C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7501-181E-4890-8CA5-3BF5CE58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9EE1-42E7-48B1-BB81-2A36421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66D-50F2-4DC7-A4E9-B4FE8BAD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C83F-BAB8-4D94-8BE9-58500BD9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4CA3-C164-4B76-B8A9-E0FCB25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77D6-8B7E-4F1A-88DE-FED5B348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79E-D6C7-4F66-990D-8FDB4E6D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E61-1E0F-4C79-B510-C63CD67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E005-F48B-4556-9495-63F117A1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319F-CB8A-4FFF-B7EC-A2BA64C1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BBDD-A9C9-418F-A424-00C4224B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64DF-2038-4CB4-98DC-A14AF90A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725-2A49-4616-8F51-EE7B76F0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3F6-16B5-4D70-BE0F-972B9444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88C-FA1C-4D6E-B222-03BF1F35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7F9-9788-421D-8EB6-EFE59CBA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BB8-1E5A-4F0D-8902-9A54380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202-D2C1-430E-807B-E201D78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722-AECD-4C9F-87E1-1980193A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84BC-CC56-45A2-9E10-D6C839CB6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391520" y="6168960"/>
            <a:ext cx="71568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E62F-8DDF-467B-871E-310F16DF8EBF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Replicable Model Organism Informa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 next-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2022480" cy="148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5120" y="5562720"/>
            <a:ext cx="7156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rtable FlyBase 1996-2002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last-generation portable system structure (1996-200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common Unices supported; source cod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installs and runs in any Unix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all via Apache web server &amp; CGI (no separate standalone servers beyond F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update nightly from main server via FTP mirror job; ‘live-file-system’ mirroring (not tarb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ftp://fbserver:FlyBase@ FlyBas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old stru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base-server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-bin/  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-local -&gt;  OS specific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-&gt; ~ftp/flybase/data/    -- public data files (with FTP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/ -- data search index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/    -- web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ror/  -- FTP mirror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/   -- public web pages and access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tc/    -- accessory data, miscell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rs/    -- SRS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rations/ -- many subject class f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/  genes/  maps/  refs/  seqs/ 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/    -- program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-sparc-solaris-bin/, sgi-irix-bin/ , linux-i86-elf-bin/ -- OS specific b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*, Readme -- install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io/biodb/                        rsync://FlyBase.net/bi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/ ; perl/ -- languag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/ -- major programs (blast, dbms, internet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/ -- OS binaries of programs,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rg/     -- template information syste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/   -- implemented projec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en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hni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gate common infrastructure from project-specific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customer-choice per-package installations and up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/make package distribution management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logic to update infrastructure from source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'rsync' now as main distribu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ting RPM, pacman, cluster-backup tools, grid packaging 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management of biodb structure, package info, configs but not main programs, data, 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project packages should be flexible in structure,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eeds to specify infrastructure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curity/authentication options; private and public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 daily mirror-ability of current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n ‘live file system’ mirror/replic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stribution &amp; update of activ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ocal clusters to manage high-volum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rdbms and other stand-alone serve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stall/update script to allow path choices, auto-restart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structure detai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xis,  lsid, lucene, ogsa, xindice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lsid,  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che,   tomc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db,  mysql,  postgresql, 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,  mirror,  rsync,  wuf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ope to use 'plain vanilla' copies of these so updates are easy and customers can replace as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ustomize per project and via 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371600"/>
            <a:ext cx="44960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fbapache_1.3.26.tar.gz, mod_backhand-1.2.2.tar.gz, mod_layout-3.2.tar.gz, mod_throttle-312.tgz;  postgresql-7.3.2.tar.gz, berkeleydb, mysql, rsync, blas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-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 common reference link to active system bi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- compiled binaries for comm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-powerpc-darwin, intel-linux, sgi-irix, sun-sparc-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Organism project templ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7720" y="1371240"/>
            <a:ext cx="78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  -- virtual host include for main httpd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local  -- local host config (not mirro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in  -- path-independent ; other project config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data (symlink to FTP f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 (configs, scripts, common sym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iscell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- database indices (update of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ecure, authenticated access data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tempo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web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Servle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  -- project mirroring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pache.conf,  apache.conf.in, apache.conf.local, cvsweb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docs: extdb: genes: images: maps: news: nomenclature: refs: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blast: s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cytodb: expdb: gmod-fb: gnomap: icons: insitus: jdata: jlib: kevin: other: people: perlbio: pix: plib: prefs: sean: stockxgene: templates: tomcat transmolmaps: transseq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blast: srs:  postg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alt-views: anatomy: annotfb: clones: docs: fbservlet: gbrowse_fb genes: genome-projects: images: index.html maps: people: pep: refs: robots.txt search: sequences: stocks: transpo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cvservlet: fbch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on for production FlyBase (summer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work with gmod-web, other gmo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ckaging distribution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 for public/private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560" y="5105520"/>
            <a:ext cx="6656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progress 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sync://FlyBase.net/biod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 do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FlyBase.net/flybase-n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dcterms:modified xsi:type="dcterms:W3CDTF">2003-05-03T14:43:03Z</dcterms:modified>
  <cp:revision>18</cp:revision>
  <dc:subject/>
  <dc:title>PowerPoint Presentation  -  Replicable Model Organism Information System</dc:title>
</cp:coreProperties>
</file>